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38EAF-235C-4228-985F-DBE4C3632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609480"/>
            <a:ext cx="83822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380880" y="1828440"/>
            <a:ext cx="83822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380880" y="4335840"/>
            <a:ext cx="83822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E902F-82BB-424B-AB6A-9915FA661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609480"/>
            <a:ext cx="83822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380880" y="1828440"/>
            <a:ext cx="40903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76040" y="1828440"/>
            <a:ext cx="40903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380880" y="4335840"/>
            <a:ext cx="40903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76040" y="4335840"/>
            <a:ext cx="40903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9C08B-D5BA-4043-B30F-31CF84AF5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609480"/>
            <a:ext cx="83822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380880" y="1828440"/>
            <a:ext cx="26989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215160" y="1828440"/>
            <a:ext cx="26989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049440" y="1828440"/>
            <a:ext cx="26989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380880" y="4335840"/>
            <a:ext cx="26989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215160" y="4335840"/>
            <a:ext cx="26989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049440" y="4335840"/>
            <a:ext cx="26989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3A6A4-4728-41DA-90FC-607E7D82E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CB90E7-A9F8-477B-9FB8-33A16BF0B4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609480"/>
            <a:ext cx="83822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380880" y="1828440"/>
            <a:ext cx="838224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C47F5-EE6C-491D-9C7D-89717B950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609480"/>
            <a:ext cx="83822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p:nvPr>
        </p:nvSpPr>
        <p:spPr>
          <a:xfrm>
            <a:off x="380880" y="1828440"/>
            <a:ext cx="838224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46EE7-4437-47B2-B281-B1C02F76DE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609480"/>
            <a:ext cx="83822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380880" y="1828440"/>
            <a:ext cx="40903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76040" y="1828440"/>
            <a:ext cx="40903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61EB7-30FE-4AE0-BF46-16C0C7452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609480"/>
            <a:ext cx="83822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A77567-3EB5-41CB-9DC1-BFF6EF1DD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609480"/>
            <a:ext cx="8382240" cy="494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F1C5F-A140-4592-A20F-C547FB12D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609480"/>
            <a:ext cx="83822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 name="PlaceHolder 2"/>
          <p:cNvSpPr>
            <a:spLocks noGrp="1"/>
          </p:cNvSpPr>
          <p:nvPr>
            <p:ph/>
          </p:nvPr>
        </p:nvSpPr>
        <p:spPr>
          <a:xfrm>
            <a:off x="380880" y="1828440"/>
            <a:ext cx="40903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76040" y="1828440"/>
            <a:ext cx="40903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380880" y="4335840"/>
            <a:ext cx="40903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48BF3-8584-48DB-84A7-9A7A09C9D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609480"/>
            <a:ext cx="83822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380880" y="1828440"/>
            <a:ext cx="838224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B9A3A-985A-47E2-81FC-67A495042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609480"/>
            <a:ext cx="83822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380880" y="1828440"/>
            <a:ext cx="40903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6040" y="1828440"/>
            <a:ext cx="40903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76040" y="4335840"/>
            <a:ext cx="40903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993A0-7918-471C-A7B8-3388C0CFD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609480"/>
            <a:ext cx="83822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380880" y="1828440"/>
            <a:ext cx="40903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6040" y="1828440"/>
            <a:ext cx="40903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380880" y="4335840"/>
            <a:ext cx="83822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181A3-3ABE-4CFD-AF1A-674DD6984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609480"/>
            <a:ext cx="83822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380880" y="1828440"/>
            <a:ext cx="83822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380880" y="4335840"/>
            <a:ext cx="83822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78189A-1D2F-4022-9809-290990EE0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609480"/>
            <a:ext cx="83822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380880" y="1828440"/>
            <a:ext cx="40903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76040" y="1828440"/>
            <a:ext cx="40903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380880" y="4335840"/>
            <a:ext cx="40903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76040" y="4335840"/>
            <a:ext cx="40903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097E01-B6DC-4D76-9BD0-91C7E2C534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609480"/>
            <a:ext cx="83822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380880" y="1828440"/>
            <a:ext cx="26989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15160" y="1828440"/>
            <a:ext cx="26989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049440" y="1828440"/>
            <a:ext cx="26989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380880" y="4335840"/>
            <a:ext cx="26989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15160" y="4335840"/>
            <a:ext cx="26989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049440" y="4335840"/>
            <a:ext cx="26989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095C40-A8A9-4D56-AFFB-721C4F6151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609480"/>
            <a:ext cx="83822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380880" y="1828440"/>
            <a:ext cx="838224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532D9-917A-4693-BA94-5BE5B44B2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609480"/>
            <a:ext cx="83822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380880" y="1828440"/>
            <a:ext cx="40903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76040" y="1828440"/>
            <a:ext cx="40903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C0AF4-A756-47D5-8667-EDA3E530C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609480"/>
            <a:ext cx="83822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29D62-9287-4482-B271-26E78DBA2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609480"/>
            <a:ext cx="8382240" cy="494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0B4E0-B7E1-4927-9279-B8E333965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609480"/>
            <a:ext cx="83822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380880" y="1828440"/>
            <a:ext cx="40903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76040" y="1828440"/>
            <a:ext cx="40903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380880" y="4335840"/>
            <a:ext cx="40903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C70E9-5D0F-41D5-9383-140950F3B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609480"/>
            <a:ext cx="83822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380880" y="1828440"/>
            <a:ext cx="40903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76040" y="1828440"/>
            <a:ext cx="40903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76040" y="4335840"/>
            <a:ext cx="40903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DEDB3-6459-4DE3-8179-F037D9FDE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609480"/>
            <a:ext cx="83822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380880" y="1828440"/>
            <a:ext cx="40903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76040" y="1828440"/>
            <a:ext cx="40903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380880" y="4335840"/>
            <a:ext cx="83822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A11BC-9443-4522-80EF-D0E4317453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609480"/>
            <a:ext cx="83822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380880" y="1828440"/>
            <a:ext cx="838224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0" y="6552720"/>
            <a:ext cx="19051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3960" y="6324120"/>
            <a:ext cx="190476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939AC-0667-4CE4-BD14-348897FA2D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PlaceHolder 2"/>
          <p:cNvSpPr>
            <a:spLocks noGrp="1"/>
          </p:cNvSpPr>
          <p:nvPr>
            <p:ph type="dt" idx="4"/>
          </p:nvPr>
        </p:nvSpPr>
        <p:spPr>
          <a:xfrm>
            <a:off x="0" y="6552720"/>
            <a:ext cx="19051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238880" y="6552720"/>
            <a:ext cx="190512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9624B-750B-4669-A1C1-383A5AF73A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1920" y="2362320"/>
            <a:ext cx="8991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HAC Workshop</a:t>
            </a:r>
            <a:br>
              <a:rPr sz="3400"/>
            </a:br>
            <a:r>
              <a:rPr b="1" lang="en-US" sz="3400" spc="-1" strike="noStrike">
                <a:solidFill>
                  <a:srgbClr val="000000"/>
                </a:solidFill>
                <a:latin typeface="Arial"/>
              </a:rPr>
              <a:t>Review Impact Drill Down Reports</a:t>
            </a:r>
            <a:endParaRPr b="1" lang="en-US" sz="3400" spc="-1" strike="noStrike">
              <a:solidFill>
                <a:srgbClr val="000000"/>
              </a:solidFill>
              <a:latin typeface="Arial"/>
            </a:endParaRPr>
          </a:p>
        </p:txBody>
      </p:sp>
      <p:sp>
        <p:nvSpPr>
          <p:cNvPr id="84" name=""/>
          <p:cNvSpPr/>
          <p:nvPr/>
        </p:nvSpPr>
        <p:spPr>
          <a:xfrm>
            <a:off x="1295280" y="4419720"/>
            <a:ext cx="6205680" cy="109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izabeth C. McCulloug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October 2009</a:t>
            </a:r>
            <a:endParaRPr b="0" lang="en-US" sz="1800" spc="-1" strike="noStrike">
              <a:solidFill>
                <a:srgbClr val="000000"/>
              </a:solidFill>
              <a:latin typeface="Arial"/>
            </a:endParaRPr>
          </a:p>
        </p:txBody>
      </p:sp>
      <p:sp>
        <p:nvSpPr>
          <p:cNvPr id="85" name=""/>
          <p:cNvSpPr/>
          <p:nvPr/>
        </p:nvSpPr>
        <p:spPr>
          <a:xfrm>
            <a:off x="2514600" y="3581280"/>
            <a:ext cx="4121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0"/>
            <a:ext cx="83818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ort – </a:t>
            </a:r>
            <a:br>
              <a:rPr sz="3200"/>
            </a:br>
            <a:r>
              <a:rPr b="1" lang="en-US" sz="3200" spc="-1" strike="noStrike">
                <a:solidFill>
                  <a:srgbClr val="000000"/>
                </a:solidFill>
                <a:latin typeface="Arial"/>
              </a:rPr>
              <a:t>Tab 1 by</a:t>
            </a:r>
            <a:br>
              <a:rPr sz="3200"/>
            </a:br>
            <a:r>
              <a:rPr b="1" lang="en-US" sz="3200" spc="-1" strike="noStrike">
                <a:solidFill>
                  <a:srgbClr val="000000"/>
                </a:solidFill>
                <a:latin typeface="Arial"/>
              </a:rPr>
              <a:t>Service Line</a:t>
            </a:r>
            <a:endParaRPr b="1" lang="en-US" sz="3200" spc="-1" strike="noStrike">
              <a:solidFill>
                <a:srgbClr val="000000"/>
              </a:solidFill>
              <a:latin typeface="Arial"/>
            </a:endParaRPr>
          </a:p>
        </p:txBody>
      </p:sp>
      <p:pic>
        <p:nvPicPr>
          <p:cNvPr id="103" name="" descr=""/>
          <p:cNvPicPr/>
          <p:nvPr/>
        </p:nvPicPr>
        <p:blipFill>
          <a:blip r:embed="rId1"/>
          <a:stretch/>
        </p:blipFill>
        <p:spPr>
          <a:xfrm>
            <a:off x="2514600" y="76320"/>
            <a:ext cx="5283360" cy="6781680"/>
          </a:xfrm>
          <a:prstGeom prst="rect">
            <a:avLst/>
          </a:prstGeom>
          <a:ln w="0">
            <a:noFill/>
          </a:ln>
        </p:spPr>
      </p:pic>
      <p:sp>
        <p:nvSpPr>
          <p:cNvPr id="3" name="PlaceHolder 2"/>
          <p:cNvSpPr>
            <a:spLocks noGrp="1"/>
          </p:cNvSpPr>
          <p:nvPr>
            <p:ph type="sldNum" idx="3"/>
          </p:nvPr>
        </p:nvSpPr>
        <p:spPr/>
        <p:txBody>
          <a:bodyPr/>
          <a:p>
            <a:fld id="{BEBAEB49-96D9-4FF3-8257-A0B8D42076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360"/>
            <a:ext cx="83818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 Tab 2 PPC Impact</a:t>
            </a:r>
            <a:endParaRPr b="1" lang="en-US" sz="3600" spc="-1" strike="noStrike">
              <a:solidFill>
                <a:srgbClr val="000000"/>
              </a:solidFill>
              <a:latin typeface="Arial"/>
            </a:endParaRPr>
          </a:p>
        </p:txBody>
      </p:sp>
      <p:pic>
        <p:nvPicPr>
          <p:cNvPr id="105" name="" descr=""/>
          <p:cNvPicPr/>
          <p:nvPr/>
        </p:nvPicPr>
        <p:blipFill>
          <a:blip r:embed="rId1"/>
          <a:stretch/>
        </p:blipFill>
        <p:spPr>
          <a:xfrm>
            <a:off x="76320" y="914400"/>
            <a:ext cx="9067680" cy="4984920"/>
          </a:xfrm>
          <a:prstGeom prst="rect">
            <a:avLst/>
          </a:prstGeom>
          <a:ln w="0">
            <a:noFill/>
          </a:ln>
        </p:spPr>
      </p:pic>
      <p:sp>
        <p:nvSpPr>
          <p:cNvPr id="3" name="PlaceHolder 2"/>
          <p:cNvSpPr>
            <a:spLocks noGrp="1"/>
          </p:cNvSpPr>
          <p:nvPr>
            <p:ph type="sldNum" idx="3"/>
          </p:nvPr>
        </p:nvSpPr>
        <p:spPr/>
        <p:txBody>
          <a:bodyPr/>
          <a:p>
            <a:fld id="{B605187A-2DE7-422D-AD7E-BDCA6EDAA1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60" y="-360"/>
            <a:ext cx="83818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 Tab 3 PPC by Service Line</a:t>
            </a:r>
            <a:endParaRPr b="1" lang="en-US" sz="3600" spc="-1" strike="noStrike">
              <a:solidFill>
                <a:srgbClr val="000000"/>
              </a:solidFill>
              <a:latin typeface="Arial"/>
            </a:endParaRPr>
          </a:p>
        </p:txBody>
      </p:sp>
      <p:pic>
        <p:nvPicPr>
          <p:cNvPr id="107" name="" descr=""/>
          <p:cNvPicPr/>
          <p:nvPr/>
        </p:nvPicPr>
        <p:blipFill>
          <a:blip r:embed="rId1"/>
          <a:stretch/>
        </p:blipFill>
        <p:spPr>
          <a:xfrm>
            <a:off x="184320" y="839880"/>
            <a:ext cx="6902280" cy="5941800"/>
          </a:xfrm>
          <a:prstGeom prst="rect">
            <a:avLst/>
          </a:prstGeom>
          <a:ln w="0">
            <a:noFill/>
          </a:ln>
        </p:spPr>
      </p:pic>
      <p:sp>
        <p:nvSpPr>
          <p:cNvPr id="3" name="PlaceHolder 2"/>
          <p:cNvSpPr>
            <a:spLocks noGrp="1"/>
          </p:cNvSpPr>
          <p:nvPr>
            <p:ph type="sldNum" idx="3"/>
          </p:nvPr>
        </p:nvSpPr>
        <p:spPr/>
        <p:txBody>
          <a:bodyPr/>
          <a:p>
            <a:fld id="{FD18955A-AEAA-4A71-824E-64614651CA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0" y="-360"/>
            <a:ext cx="83818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ort – Tab 4 Top 25 Base APR DRGs</a:t>
            </a:r>
            <a:endParaRPr b="1" lang="en-US" sz="3200" spc="-1" strike="noStrike">
              <a:solidFill>
                <a:srgbClr val="000000"/>
              </a:solidFill>
              <a:latin typeface="Arial"/>
            </a:endParaRPr>
          </a:p>
        </p:txBody>
      </p:sp>
      <p:pic>
        <p:nvPicPr>
          <p:cNvPr id="109" name="" descr=""/>
          <p:cNvPicPr/>
          <p:nvPr/>
        </p:nvPicPr>
        <p:blipFill>
          <a:blip r:embed="rId1"/>
          <a:stretch/>
        </p:blipFill>
        <p:spPr>
          <a:xfrm>
            <a:off x="76320" y="841320"/>
            <a:ext cx="8915400" cy="5560920"/>
          </a:xfrm>
          <a:prstGeom prst="rect">
            <a:avLst/>
          </a:prstGeom>
          <a:ln w="0">
            <a:noFill/>
          </a:ln>
        </p:spPr>
      </p:pic>
      <p:sp>
        <p:nvSpPr>
          <p:cNvPr id="3" name="PlaceHolder 2"/>
          <p:cNvSpPr>
            <a:spLocks noGrp="1"/>
          </p:cNvSpPr>
          <p:nvPr>
            <p:ph type="sldNum" idx="3"/>
          </p:nvPr>
        </p:nvSpPr>
        <p:spPr/>
        <p:txBody>
          <a:bodyPr/>
          <a:p>
            <a:fld id="{B1541F3D-212E-4A21-80B8-02183FA70D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60"/>
            <a:ext cx="83818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ort – Tab 5 Top APR DRGs by SOI</a:t>
            </a:r>
            <a:endParaRPr b="1" lang="en-US" sz="3200" spc="-1" strike="noStrike">
              <a:solidFill>
                <a:srgbClr val="000000"/>
              </a:solidFill>
              <a:latin typeface="Arial"/>
            </a:endParaRPr>
          </a:p>
        </p:txBody>
      </p:sp>
      <p:pic>
        <p:nvPicPr>
          <p:cNvPr id="111" name="" descr=""/>
          <p:cNvPicPr/>
          <p:nvPr/>
        </p:nvPicPr>
        <p:blipFill>
          <a:blip r:embed="rId1"/>
          <a:stretch/>
        </p:blipFill>
        <p:spPr>
          <a:xfrm>
            <a:off x="152280" y="990720"/>
            <a:ext cx="8991720" cy="3152520"/>
          </a:xfrm>
          <a:prstGeom prst="rect">
            <a:avLst/>
          </a:prstGeom>
          <a:ln w="0">
            <a:noFill/>
          </a:ln>
        </p:spPr>
      </p:pic>
      <p:sp>
        <p:nvSpPr>
          <p:cNvPr id="3" name="PlaceHolder 2"/>
          <p:cNvSpPr>
            <a:spLocks noGrp="1"/>
          </p:cNvSpPr>
          <p:nvPr>
            <p:ph type="sldNum" idx="3"/>
          </p:nvPr>
        </p:nvSpPr>
        <p:spPr/>
        <p:txBody>
          <a:bodyPr/>
          <a:p>
            <a:fld id="{02E60057-7B52-46E4-BEA6-236920850D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609120"/>
            <a:ext cx="8686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PC v27 On-Line Access</a:t>
            </a:r>
            <a:endParaRPr b="1" lang="en-US" sz="2200" spc="-1" strike="noStrike">
              <a:solidFill>
                <a:srgbClr val="000000"/>
              </a:solidFill>
              <a:latin typeface="Arial"/>
            </a:endParaRPr>
          </a:p>
        </p:txBody>
      </p:sp>
      <p:sp>
        <p:nvSpPr>
          <p:cNvPr id="113" name="PlaceHolder 2"/>
          <p:cNvSpPr>
            <a:spLocks noGrp="1"/>
          </p:cNvSpPr>
          <p:nvPr>
            <p:ph/>
          </p:nvPr>
        </p:nvSpPr>
        <p:spPr>
          <a:xfrm>
            <a:off x="304920" y="1599840"/>
            <a:ext cx="8686800" cy="4800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ww.aprdrgassign.co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r ID     - MDHosp</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ssword - aprdrg401</a:t>
            </a:r>
            <a:endParaRPr b="0" lang="en-US" sz="18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C v27 Definition Manual</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th Care Financing Review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ring 2006 Article on PPC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ology Overview</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C v27 Calculator</a:t>
            </a:r>
            <a:endParaRPr b="0" lang="en-US" sz="14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14" name="" descr=""/>
          <p:cNvPicPr/>
          <p:nvPr/>
        </p:nvPicPr>
        <p:blipFill>
          <a:blip r:embed="rId1"/>
          <a:stretch/>
        </p:blipFill>
        <p:spPr>
          <a:xfrm>
            <a:off x="3657600" y="0"/>
            <a:ext cx="4438800" cy="6629400"/>
          </a:xfrm>
          <a:prstGeom prst="rect">
            <a:avLst/>
          </a:prstGeom>
          <a:ln w="0">
            <a:noFill/>
          </a:ln>
        </p:spPr>
      </p:pic>
      <p:sp>
        <p:nvSpPr>
          <p:cNvPr id="4" name="PlaceHolder 3"/>
          <p:cNvSpPr>
            <a:spLocks noGrp="1"/>
          </p:cNvSpPr>
          <p:nvPr>
            <p:ph type="sldNum" idx="3"/>
          </p:nvPr>
        </p:nvSpPr>
        <p:spPr/>
        <p:txBody>
          <a:bodyPr/>
          <a:p>
            <a:fld id="{3A52E79C-4776-43EF-98F6-F31692365C7E}" type="slidenum">
              <a:t>15</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609480"/>
            <a:ext cx="83822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act Report Components</a:t>
            </a:r>
            <a:endParaRPr b="1" lang="en-US" sz="3600" spc="-1" strike="noStrike">
              <a:solidFill>
                <a:srgbClr val="000000"/>
              </a:solidFill>
              <a:latin typeface="Arial"/>
            </a:endParaRPr>
          </a:p>
        </p:txBody>
      </p:sp>
      <p:sp>
        <p:nvSpPr>
          <p:cNvPr id="87" name="PlaceHolder 2"/>
          <p:cNvSpPr>
            <a:spLocks noGrp="1"/>
          </p:cNvSpPr>
          <p:nvPr>
            <p:ph/>
          </p:nvPr>
        </p:nvSpPr>
        <p:spPr>
          <a:xfrm>
            <a:off x="380880" y="1828440"/>
            <a:ext cx="838224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PPC Rate by APR DR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of Significanc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inal Charge Impac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E434748-423C-432D-A355-7EE969BB12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609480"/>
            <a:ext cx="83822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pected Value</a:t>
            </a:r>
            <a:endParaRPr b="1" lang="en-US" sz="3600" spc="-1" strike="noStrike">
              <a:solidFill>
                <a:srgbClr val="000000"/>
              </a:solidFill>
              <a:latin typeface="Arial"/>
            </a:endParaRPr>
          </a:p>
        </p:txBody>
      </p:sp>
      <p:sp>
        <p:nvSpPr>
          <p:cNvPr id="89" name="PlaceHolder 2"/>
          <p:cNvSpPr>
            <a:spLocks noGrp="1"/>
          </p:cNvSpPr>
          <p:nvPr>
            <p:ph/>
          </p:nvPr>
        </p:nvSpPr>
        <p:spPr>
          <a:xfrm>
            <a:off x="304920" y="1447560"/>
            <a:ext cx="8076960" cy="4800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PPC expected value is the number of patients with a PPC that would occur if a  hospital’s mix of patients by APR DRG and severity of illness subclass had experienced the same PPC rate as that in a reference or norm set of hospital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technique by which the expected value or expected number of PPCs is calculated is called indirect standardization.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PPC rates in the normative database are calculated for each admission APR DRG and severity of illness subclass by dividing the observed number of PPCs by the total number of patients at risk.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nce a set of PPC norms are calculated, they can be applied to individual hospitals to compute its expected PPC ra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umber of Excess or Avoided PPCs equals the difference between the actual number of cases assigned a PPC minus the expected number of cases for that PPC.</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F1965EC-0343-400B-A121-A747A7BB651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609480"/>
            <a:ext cx="83822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st of Significance</a:t>
            </a:r>
            <a:endParaRPr b="1" lang="en-US" sz="3600" spc="-1" strike="noStrike">
              <a:solidFill>
                <a:srgbClr val="000000"/>
              </a:solidFill>
              <a:latin typeface="Arial"/>
            </a:endParaRPr>
          </a:p>
        </p:txBody>
      </p:sp>
      <p:sp>
        <p:nvSpPr>
          <p:cNvPr id="91" name="PlaceHolder 2"/>
          <p:cNvSpPr>
            <a:spLocks noGrp="1"/>
          </p:cNvSpPr>
          <p:nvPr>
            <p:ph/>
          </p:nvPr>
        </p:nvSpPr>
        <p:spPr>
          <a:xfrm>
            <a:off x="456840" y="1676160"/>
            <a:ext cx="792468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hospital’s actual and expected PPC rate can be different. This can represent a true difference or can be caused by random vari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difference between a hospital’s actual and expected PPC rate is considered “statistically significant” if the probability that the difference can be the result of random variation is smal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373ED48-392C-46A0-A855-E57D4C9F55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609480"/>
            <a:ext cx="83822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st of Significance (cont.)</a:t>
            </a:r>
            <a:endParaRPr b="1" lang="en-US" sz="3600" spc="-1" strike="noStrike">
              <a:solidFill>
                <a:srgbClr val="000000"/>
              </a:solidFill>
              <a:latin typeface="Arial"/>
            </a:endParaRPr>
          </a:p>
        </p:txBody>
      </p:sp>
      <p:sp>
        <p:nvSpPr>
          <p:cNvPr id="93" name="PlaceHolder 2"/>
          <p:cNvSpPr>
            <a:spLocks noGrp="1"/>
          </p:cNvSpPr>
          <p:nvPr>
            <p:ph/>
          </p:nvPr>
        </p:nvSpPr>
        <p:spPr>
          <a:xfrm>
            <a:off x="304920" y="1676160"/>
            <a:ext cx="807696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 the PPC reports, a difference between the actual and expected PPC rate is considered statistically significant at the 0.05 level.  This means that the probability that the difference between the actual and expected PPC rate is the result of random variation is five percent or less (i.e., less than one chance in twenty).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calculation of statistical significance of the difference between the actual and expected PPC rate uses the Cochran-Mantel-Haenszel test (CMH).</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24E4BD2-47F7-47E0-9817-589A9585BE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609480"/>
            <a:ext cx="83822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ginal Charge Impact</a:t>
            </a:r>
            <a:endParaRPr b="1" lang="en-US" sz="3600" spc="-1" strike="noStrike">
              <a:solidFill>
                <a:srgbClr val="000000"/>
              </a:solidFill>
              <a:latin typeface="Arial"/>
            </a:endParaRPr>
          </a:p>
        </p:txBody>
      </p:sp>
      <p:sp>
        <p:nvSpPr>
          <p:cNvPr id="95" name="PlaceHolder 2"/>
          <p:cNvSpPr>
            <a:spLocks noGrp="1"/>
          </p:cNvSpPr>
          <p:nvPr>
            <p:ph/>
          </p:nvPr>
        </p:nvSpPr>
        <p:spPr>
          <a:xfrm>
            <a:off x="380880" y="1828440"/>
            <a:ext cx="838224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d marginal charge amount for a specific PP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PC Impact equals the difference in the actual and expected number of PPCs times the marginal charge amount for a specific PP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MHAC impact is the net sum of the PPC impact across the 50 PPCs defined in the MHAC policy for FY2010</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A815C0F-0220-4B34-8687-ADB28B06FC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609480"/>
            <a:ext cx="83822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Drill Down</a:t>
            </a:r>
            <a:endParaRPr b="1" lang="en-US" sz="3600" spc="-1" strike="noStrike">
              <a:solidFill>
                <a:srgbClr val="000000"/>
              </a:solidFill>
              <a:latin typeface="Arial"/>
            </a:endParaRPr>
          </a:p>
        </p:txBody>
      </p:sp>
      <p:sp>
        <p:nvSpPr>
          <p:cNvPr id="97" name="PlaceHolder 2"/>
          <p:cNvSpPr>
            <a:spLocks noGrp="1"/>
          </p:cNvSpPr>
          <p:nvPr>
            <p:ph/>
          </p:nvPr>
        </p:nvSpPr>
        <p:spPr>
          <a:xfrm>
            <a:off x="380880" y="1828440"/>
            <a:ext cx="838224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P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PC by Service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PC by Top 25 Base Admission APR DR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PC by Top 25 Base Admission APR DRGs and Severity of Illness Leve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36E4D5C-FF79-4578-84EC-E96D224BFF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609480"/>
            <a:ext cx="83822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Structure</a:t>
            </a:r>
            <a:endParaRPr b="1" lang="en-US" sz="3600" spc="-1" strike="noStrike">
              <a:solidFill>
                <a:srgbClr val="000000"/>
              </a:solidFill>
              <a:latin typeface="Arial"/>
            </a:endParaRPr>
          </a:p>
        </p:txBody>
      </p:sp>
      <p:sp>
        <p:nvSpPr>
          <p:cNvPr id="99" name="PlaceHolder 2"/>
          <p:cNvSpPr>
            <a:spLocks noGrp="1"/>
          </p:cNvSpPr>
          <p:nvPr>
            <p:ph/>
          </p:nvPr>
        </p:nvSpPr>
        <p:spPr>
          <a:xfrm>
            <a:off x="380880" y="1828440"/>
            <a:ext cx="838224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ll down aggreg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HAC Total Impa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discharges at risk for PP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 (actual) number of cases assigned PP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number of cases for PP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observed and expected shown in rates per 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 Difference between observed and exp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ce Level</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tatistically significant ( p&lt;0.05 ) higher rate of PP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Statistically significant ( p&lt;0.05 ) lower rate of PPC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0C44670-1CAC-4E99-A204-572D79A64D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360"/>
            <a:ext cx="83818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 Tab 1 Overall</a:t>
            </a:r>
            <a:endParaRPr b="1" lang="en-US" sz="3600" spc="-1" strike="noStrike">
              <a:solidFill>
                <a:srgbClr val="000000"/>
              </a:solidFill>
              <a:latin typeface="Arial"/>
            </a:endParaRPr>
          </a:p>
        </p:txBody>
      </p:sp>
      <p:pic>
        <p:nvPicPr>
          <p:cNvPr id="101" name="" descr=""/>
          <p:cNvPicPr/>
          <p:nvPr/>
        </p:nvPicPr>
        <p:blipFill>
          <a:blip r:embed="rId1"/>
          <a:stretch/>
        </p:blipFill>
        <p:spPr>
          <a:xfrm>
            <a:off x="0" y="1143000"/>
            <a:ext cx="8839080" cy="3282840"/>
          </a:xfrm>
          <a:prstGeom prst="rect">
            <a:avLst/>
          </a:prstGeom>
          <a:ln w="0">
            <a:noFill/>
          </a:ln>
        </p:spPr>
      </p:pic>
      <p:sp>
        <p:nvSpPr>
          <p:cNvPr id="3" name="PlaceHolder 2"/>
          <p:cNvSpPr>
            <a:spLocks noGrp="1"/>
          </p:cNvSpPr>
          <p:nvPr>
            <p:ph type="sldNum" idx="3"/>
          </p:nvPr>
        </p:nvSpPr>
        <p:spPr/>
        <p:txBody>
          <a:bodyPr/>
          <a:p>
            <a:fld id="{0B581CB4-6150-470C-839D-324FE439CF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9T17:54:09Z</dcterms:created>
  <dc:creator>3M HIS</dc:creator>
  <dc:description/>
  <dc:language>en-US</dc:language>
  <cp:lastModifiedBy>3M</cp:lastModifiedBy>
  <dcterms:modified xsi:type="dcterms:W3CDTF">2009-09-28T15:57:44Z</dcterms:modified>
  <cp:revision>5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398100.000000000</vt:lpwstr>
  </property>
  <property fmtid="{D5CDD505-2E9C-101B-9397-08002B2CF9AE}" pid="3" name="PublishingExpirationDate">
    <vt:lpwstr/>
  </property>
  <property fmtid="{D5CDD505-2E9C-101B-9397-08002B2CF9AE}" pid="4" name="PublishingStartDate">
    <vt:lpwstr/>
  </property>
  <property fmtid="{D5CDD505-2E9C-101B-9397-08002B2CF9AE}" pid="5" name="TemplateUrl">
    <vt:lpwstr/>
  </property>
  <property fmtid="{D5CDD505-2E9C-101B-9397-08002B2CF9AE}" pid="6" name="_SharedFileIndex">
    <vt:lpwstr/>
  </property>
  <property fmtid="{D5CDD505-2E9C-101B-9397-08002B2CF9AE}" pid="7" name="_SourceUrl">
    <vt:lpwstr/>
  </property>
  <property fmtid="{D5CDD505-2E9C-101B-9397-08002B2CF9AE}" pid="8" name="display_urn:schemas-microsoft-com:office:office#Author">
    <vt:lpwstr>System Account</vt:lpwstr>
  </property>
  <property fmtid="{D5CDD505-2E9C-101B-9397-08002B2CF9AE}" pid="9" name="display_urn:schemas-microsoft-com:office:office#Editor">
    <vt:lpwstr>System Account</vt:lpwstr>
  </property>
  <property fmtid="{D5CDD505-2E9C-101B-9397-08002B2CF9AE}" pid="10" name="xd_ProgID">
    <vt:lpwstr/>
  </property>
  <property fmtid="{D5CDD505-2E9C-101B-9397-08002B2CF9AE}" pid="11" name="xd_Signature">
    <vt:lpwstr/>
  </property>
</Properties>
</file>